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53A-092A-48B3-AF41-2B0B0FA5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54E-5341-4043-9676-38435B9A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9A8EC-6F95-4162-9FEB-F46C3B88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F137B-DF13-474F-A23B-7BEC9841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80874-92B7-4A84-B32A-468839C1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6AB20-EA95-4015-B7EC-D6F10F44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352F0-9219-494A-A185-0F38BB94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D734E-8559-41F3-A4C8-5D776B22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045D8-FDCD-4A8C-AD65-5AAF993E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2A0BD-369F-4267-99D5-8424FA5F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4CA3B-C087-4ACD-8BC9-AADFE3A9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62142-CBF9-45A3-9E6E-990AB65E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5FE-EC3D-4BE1-AC39-1587FBC6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0F5DB-75C1-48C9-997E-C08DA06A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5D180-2834-4EBB-8965-45ADB91C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A984F-0D27-453B-96A5-CC04EE20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5BE5D-79EC-478B-BAE5-2B481CFE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FDC51-61D4-4850-ABD2-A8D95DBC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DCD3A-7CF9-489E-83DA-C4BEF9DF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3D607-4377-49F5-8EF9-8D4203FE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A777A-B5C7-4B29-9111-9C5DF7A1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16603-BEBF-49B2-8CD9-4A52D6A3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54D24-00A8-494F-A114-321BD670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BEB-E9E1-4AA5-9831-3BC18CC9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D01CC-42E8-4F45-BC79-668B3CEE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C4F33-D947-488E-B379-D2B3C100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85F81-4910-422B-9961-55884F15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3A33C-633F-4EED-8F10-CF903EDB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91591-C578-40C6-9B46-6EAE5446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5CEB1-74AE-4101-9F1B-D87508C6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47773-1451-4E62-AD72-9086AC48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CEF91-F8BE-4A47-A66A-23664FFA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B134E-3234-4CB4-90DB-75B733D6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4ED10-A09D-48DC-AC6C-1D0DB61B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A172-0E7E-46EC-BE41-3DF32537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6717C-2437-4B32-BC6D-2FBD6E52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3F170-49CE-4702-B676-7A0D5220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F3FD2-125E-4CA6-8A3F-6E2FB475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74015-D4A8-4738-998F-8CA0C040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ACF3D-7008-4DC2-9EFC-C6934F70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6D477-534C-4E8A-BF06-850AC9D8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18D24-CB28-4049-954B-1F327606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EDE53-8E2B-420F-AF5A-44569B58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D80AD-FF31-4217-8294-DF0154AB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E02DB-3AB7-4CE4-BB74-25CC7615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1462-CD10-45CE-89F7-647FBBA5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39BD0-C21C-41E3-9685-102A3368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63E6D-795C-4D09-9393-9F010E07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9361C-CC73-4A89-9C29-0E9959C8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84576-C5E1-4751-BE94-5B8CF1BA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6A773-3DD9-47DE-AC61-E98C8295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81131-378E-4155-9AE0-2F208D81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0C369C-DBD9-4D37-B3CE-28B7AF97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D6C16-0FBF-427D-902B-31BF6113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2D1EF-C3DC-45BA-8D6C-B95543AE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E2289B-2EB9-4BA3-9A2A-F5169D59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A7EE-AD9D-4D96-A153-D950FBC8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702DEF-1627-4E63-BAA1-6E4B3980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88AE8-0B35-475C-B202-35ECA4C3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D01074-2D4C-4075-96AF-7DCC8CBB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D4224-F07A-4D99-824D-3C22CD89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F4C208-D230-425E-9E75-EE690910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8D4EF2-783E-44F9-A073-1B96B209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C0B50-A36F-4313-8681-EFA3823E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770A31-DAD0-45EE-94A5-8256864B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9F8C2F-0DFD-4CF2-BDAE-3B6169D7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6521C6-B65D-40E2-974C-5253465C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60CF-DE54-498C-9179-53937C81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994C76-BFBE-4D1E-9838-F8F9FEB7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0C3E35-F3EE-4F1F-A821-08802D0B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135EF6-BC0B-4301-8FE9-8F10004E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771BC-29D1-4444-A717-F8A44450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E0B92-6499-457F-9D38-8875FF64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D8330-613D-45F0-B2F4-221B1CBC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4F7868-135F-4C65-8FEA-61CCF118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C65DA5-AD7E-49D4-99BC-E4FC07E6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41EB14-69EC-41ED-B666-23FDFF08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FB3F8D-F790-425C-98D1-75C58D30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9C33-8666-484A-A3ED-BAA16761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5136F6-3AA6-4BD0-B646-B24A6975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248D20-420D-474A-8E19-630A4660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E26875-961D-47E5-8794-74C2C59B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730858-B40A-44E4-ACB4-EB4BFE30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4FEA9D-C5B6-4B91-AC65-DBBD32CA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63FFF4-12E1-4556-A995-8007E8FB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9108D0-C826-4FFA-803E-5489E959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5E0044-4CFB-4969-8DF2-27A49D03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275032-996E-4506-BF1F-055A4AA2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F25DAB-321B-41E9-8C7E-843C3803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175A-6B44-4127-9E88-D2E5E081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DB470-9A3A-4308-9FB7-F5634D05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5DC5CF-ED8F-4454-B404-17134ACB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83BEE8-E7FF-4EAC-A48F-7A99AB47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8122B0-7752-440A-B0FE-D9E4E2A3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CAC29D-074D-48CA-B325-7D4DE311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12CD2D-5E1F-492F-8B92-0C21F2DD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3324FA-2066-4E99-A68A-194E0B09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B7F902-6BCB-4B68-954B-5D23335E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316528-99F3-45C6-9758-56AEDB6C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52E1B4-FAA1-4D1D-B0FC-D6EAE68C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DE5F-906F-4F42-B0C1-C2C8BFB1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FDEF04-8382-4CE1-B72F-E5E91446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76F788-93F3-4A76-8B67-B11B1E14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2A80EE-8359-476A-BA70-44112999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2BA7A7-CC8D-4D71-A5DF-644E6A82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FA8222-AFE5-4C6C-A1AB-4DC6034D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580A72-50D7-4B0D-98B8-4CC9D850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88D172-ABD1-43AF-B1EA-A96F1A85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0C7CF-5BE5-434E-8A9F-00989B92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DC7DAA-64A2-4329-90FE-0B491CEB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782FEA-56B5-44F7-A0A0-C72BCCFB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6AB-C0B9-4ED7-89F9-404FFD7A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52A5-1C55-4485-B2B9-1320B817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62B8A6-D4BB-4BCE-B201-69300E82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6336B8-FD16-4584-B138-788E5436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56B104-3060-4723-9460-C153855C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4BD8DA-6B5C-42C4-B895-1585C9CE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29DED6-C36E-4F27-8F56-7588CF00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CFF20B-AEB7-4C92-8BE9-0FB38E8B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EAC893-F472-4827-A26A-67ED1139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8664FC-66AA-4544-A74A-F41B5ED3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295D02-4CE4-40E5-8832-EB5D7E44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EED009-1C5A-418B-89B8-91454515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A50D-B195-4B3A-9E7E-EB1B7A6B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810EAB-9002-4246-9592-0D680D91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DB1502-6A77-4076-8D62-FDC71636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75558C-C3E9-4943-A0A3-B039C2D8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8A8ECB-F97A-4EF7-8109-35E6644E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8B33BE-11E3-4500-AFA7-2FD22F47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47AEA0-16D7-4289-B585-82630F50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905D27-2658-413F-9D01-CB6F5ACB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02CB63-0E91-48CB-BF37-7440C240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5DE831-EB12-4C05-8E04-22C74797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F401E9-2541-4E74-A1F8-A694F92A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4A3F-7C84-4CA4-AA00-FA4AF7F9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879A7B-1EA2-438D-BD45-92104F26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A6B7A9-F2A3-4A99-A2F1-C98FF8EB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2B4752-37D7-407D-A0D9-CA5F1DF6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AC7767-179F-4539-9A6A-FB41218A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426F03-C7E3-4F0D-8D58-B2F168B4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7CAD4D-A156-40B2-BCFF-0AF8B93F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4818BD-036A-4FCC-9144-B613A1D3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E62245-62B7-48A5-B4AC-FD46FE67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CF6A15-CDFA-4582-95F1-0138608F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B83CA3-3CB1-4483-9156-BD3C1AAF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C404-AAE3-4025-BEAD-9B3210B1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1B68C2-3951-441C-AE98-CBE88D49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AB77AC-D0F4-481D-9283-3EB0F9A5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7FC1BD-0543-4102-98F5-FFE0B73D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8D868C-E135-4842-9C84-6682B7D3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C1A9B4-C623-4643-A217-BE943B19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317075-5705-4D22-A280-1E515747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B2FF46-A594-4344-9815-A5582CE0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3492B8-2716-415B-9129-41166959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B98248-199E-4792-B5C1-E605D222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8E01FF-4009-4786-A56B-AD9AFB31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C831-D539-43DD-9DD8-76F16AC3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83498D-3F15-41F2-89E4-F61A0479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875FBC-887C-481C-AF1F-A2A126D4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8E7980-647D-4896-B8CA-CAF52AE1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92FB0A-B9FD-46F4-898D-06997C59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7B87FE-9049-49E9-A5DD-4025F274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A37B95-39C1-41D6-9DFC-B3A6ACF3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B80E13-1FF9-4C8D-B054-062501B7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6C5AD2-6B6C-4AF5-9EF3-03C32807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18CEDD-61A0-432E-8840-412AB9D7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0108F7-8CAD-42CC-9DC9-A9857500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0A636-EAB3-44C2-BBD3-5F639338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D99E3C-977B-4B9A-AAEA-64089837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EA69F4-7A0B-459B-B4B4-DDFD4867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29E3CA-1DD5-4168-A621-C2A3BCA4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DB09B-16B6-4E05-AA4F-3A389D42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B29A3-C534-42AA-ABD8-1E778F92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0989F-A0FE-4D43-A363-BD42742D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FA2F2-90EE-4881-A7E1-BD471A70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AA23-1F76-4DDD-8D5F-89CD71ED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5C695-C1FB-454F-AC3A-29AA3E4D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7FF2D-B6AA-42BA-A4D5-51F9238A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AD6D5-3815-4ECB-85E5-70628655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3F7D7-4F23-466A-8986-F9C3BCAB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C24E6-28A4-44F6-B3DE-EC4F75FF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D6E18-DCFA-4AB2-A8B3-C6CC5740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AA15C-9041-438E-B31F-6F0A4EFC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2A45C-8F16-4E28-9BAC-355B65E6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87A39-9A15-43D3-A132-1398F61B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9EDF9-76BC-4785-8472-FC27C1E4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6EFA-82F0-494B-8562-FE8A8BEF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1F300-20F5-4321-9AEE-E5BADB3A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D91F6-F1BA-4181-963D-45991F93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8D199-CAAD-4891-8DF9-D909D44E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F613D-80FE-4BA6-9191-EA9A52FA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EC0C8-6A45-44C2-8D33-18E28B84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1D4A6-9527-4853-A3DE-5B8655BE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04D50-03F9-4FED-B5EE-FF71517F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D578E-4CF5-4890-8A6C-44E203BF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85DDD-341D-4EB5-8675-981AFDC8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9EA47-37EC-4160-86DE-CD2861D1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284-7F9A-4E88-9C01-09265C1E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BBE94-CED4-45E2-9824-9D943C49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6872C-B618-4993-A66B-FCB5BEEF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4113D-3330-4D0B-984E-6088E109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30852-862B-4BF6-A04C-62B25657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13224-2E27-433A-80B4-FDFE666B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2015A-E34A-42CA-8F51-8D1E9AF3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97BAC-6A42-4675-B8A3-8368320F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AB975-1496-421C-A6B6-B94E3678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31462-9D03-4570-9841-BFEDBEC6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6C770-F576-4722-B07D-253F62BA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6C1A-1310-490E-BE9F-1B5845B3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037BE-1D18-443F-BA39-8AEE790B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071D5-C07F-4E13-97E4-208DC5A2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09AC1-D24A-4CFE-A4F8-E25C1DEB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253C0-EE6B-4A72-A972-1CB614D5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AF457-0855-4F67-9012-D78B833B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B4CA1-36FD-4CA9-B4DE-EC5ED5F0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F948E-D109-438A-AF66-762A5068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CD7A4-9BCC-489C-A247-B7F44BCE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FD366-78E3-41C8-8DAE-CC01B806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A16CD-49A5-4425-AC81-F066892C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CA9-F534-4FA7-95F2-A9708D73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5D25F-A7CA-4115-A319-E0F8402A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B8133-5EBA-4C0E-B984-1CBEC407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F38B9-B7BC-40BE-BC1A-5CAE912B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42E20-AD88-40F6-86EF-C122115B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21F89-E0AA-436B-9301-6CE6E7D7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7A8B5-044C-4342-B354-1FB50858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FF631-C52E-4EBF-9DAA-9BF41920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914DF-5E0A-427E-8F71-02F3740A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F4845-F3FE-4BDE-B031-782E3FC8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B226A-E49A-4C2D-A525-73D41B7D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40D7-2298-4352-B714-F6E60A75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631CC-6D18-4974-BA14-CC228B73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E5171-1690-47CB-9027-E9EA59AF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E9814-CD0E-43DA-AAE6-AB2DDA7E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8AECC-FAD2-472B-AD94-71093675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A6A38-D788-4A2A-A8FB-6BFC8FE7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6C03A-DBD8-4277-9AD7-262CE978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C40C5-30A8-4340-B8BB-53A0BAF7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04E92-8395-4EF4-8A58-ABDEB126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B999A-9C20-4F76-813F-38220D09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869EA-832C-40E5-A9EF-256CC226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ED91-3269-471C-A77D-EEF46DAC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0BEA9-4EE5-452D-AC8B-A5097904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5A57B-0937-4BEB-8D4D-E87ECDCD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05E21-1B4C-486C-9A38-5E4FB551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54262-FB71-4D52-891A-86C48A60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C4E69-D860-4194-978A-36962374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5B747-BF6E-4234-B2ED-9E2F59B8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48ED5-C8E2-4959-A25A-A47B391B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1F5F8-9192-41C9-A75A-275250FF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177EC-AC15-4126-98C6-AF87FD7B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898E2-9CAB-4710-AFF8-B92E8720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BD83-3DB0-4B2D-BADF-08BA1E039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75EF-8D12-40C2-BE86-2CDF2E4783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7280-9FF6-46E7-B5FC-90A2E1D814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DCC7-0A18-4638-9FAC-AAAEB0EC93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9A25-C18E-4A28-A777-E698273962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8750-0EC9-481D-948E-1CBD893AD2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4BA2-5B2A-4F7E-9929-72D89E29DD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55D6-D95A-4670-AC6F-6A7FFB8177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EA7A-E47B-410E-8669-58ED5EF8A3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E2C4-C01F-484E-BE3D-4B2889E45A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EAE8-B9EA-4C62-A8DD-C27BF366DE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38C7-A4ED-41C1-96D7-10E8A8CB18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0377-FAC3-4676-AF37-26E7966992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3DCE-E706-48D0-A3B4-B025CDBC5D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D23C-1624-4EBD-9F86-C89FD7D5AE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1BAE-FE82-4D20-8E72-AEEB8FE567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9410-7172-4B70-AEEB-D553EE44F9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1B0F-1043-444E-9AEB-3586BD389B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F852-C8DA-4AF8-952B-E053B50214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C268-1192-4523-8649-C80F13CCC3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2107-F124-4594-A74E-CF3194624A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5457-7788-4DBB-9CFD-89C80C2B44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A14E-5382-40BD-A0F3-759AED533C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C7C1-22D9-411B-A763-E07BD4B61A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711F-B784-4257-AEFD-3B41639A7E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DB28-B5B4-4945-927C-B97CE0E38A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206F-B12B-4F84-802B-A3E078F1BF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2D42-471F-4E9B-965D-02B085AD5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1D72-2F7D-4314-9352-BA5B40305D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551C-A4D7-4374-882C-5C2FF6EE27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1EA5-8412-45C4-883E-9CA1D0EC73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5313-4991-450B-99B6-468E4272A7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AE32-ED59-4A65-B748-2665A4CCE6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9009-8247-407C-A864-0223D62C00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53ED-31E6-4689-905A-DF222E0F87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72D8-48A9-4BA3-B1FC-BAD36A386E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C1EB-A2A9-4C80-9F65-29AB2D5320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B8C7-355E-46B1-A611-6A9D7A164D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40EC-E704-471B-B0BE-C4310ACC98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47A2-99B8-4592-80DC-C05B5B498A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30240" y="3051000"/>
            <a:ext cx="8904240" cy="7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图片 2" descr=""/>
          <p:cNvPicPr/>
          <p:nvPr/>
        </p:nvPicPr>
        <p:blipFill>
          <a:blip r:embed="rId1"/>
          <a:stretch/>
        </p:blipFill>
        <p:spPr>
          <a:xfrm>
            <a:off x="76320" y="1733400"/>
            <a:ext cx="8991360" cy="33912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2"/>
          <a:stretch/>
        </p:blipFill>
        <p:spPr>
          <a:xfrm>
            <a:off x="3132000" y="2579760"/>
            <a:ext cx="93528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3"/>
          <a:stretch/>
        </p:blipFill>
        <p:spPr>
          <a:xfrm>
            <a:off x="2627280" y="3933720"/>
            <a:ext cx="1873440" cy="449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4"/>
          <a:stretch/>
        </p:blipFill>
        <p:spPr>
          <a:xfrm>
            <a:off x="2411280" y="4595760"/>
            <a:ext cx="18734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图片 1" descr=""/>
          <p:cNvPicPr/>
          <p:nvPr/>
        </p:nvPicPr>
        <p:blipFill>
          <a:blip r:embed="rId1"/>
          <a:stretch/>
        </p:blipFill>
        <p:spPr>
          <a:xfrm>
            <a:off x="442800" y="2119320"/>
            <a:ext cx="8256600" cy="26193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2"/>
          <a:stretch/>
        </p:blipFill>
        <p:spPr>
          <a:xfrm>
            <a:off x="3635280" y="2075040"/>
            <a:ext cx="1297080" cy="4489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3"/>
          <a:stretch/>
        </p:blipFill>
        <p:spPr>
          <a:xfrm>
            <a:off x="5867280" y="3414600"/>
            <a:ext cx="1297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2" name="图片 1" descr=""/>
          <p:cNvPicPr/>
          <p:nvPr/>
        </p:nvPicPr>
        <p:blipFill>
          <a:blip r:embed="rId1"/>
          <a:stretch/>
        </p:blipFill>
        <p:spPr>
          <a:xfrm>
            <a:off x="57240" y="1052640"/>
            <a:ext cx="9029520" cy="47527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2"/>
          <a:stretch/>
        </p:blipFill>
        <p:spPr>
          <a:xfrm>
            <a:off x="1619280" y="3270240"/>
            <a:ext cx="5616720" cy="4492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3"/>
          <a:stretch/>
        </p:blipFill>
        <p:spPr>
          <a:xfrm>
            <a:off x="4284720" y="4624560"/>
            <a:ext cx="324000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7" name="图片 1" descr=""/>
          <p:cNvPicPr/>
          <p:nvPr/>
        </p:nvPicPr>
        <p:blipFill>
          <a:blip r:embed="rId1"/>
          <a:stretch/>
        </p:blipFill>
        <p:spPr>
          <a:xfrm>
            <a:off x="480960" y="1400040"/>
            <a:ext cx="8180280" cy="40579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2"/>
          <a:stretch/>
        </p:blipFill>
        <p:spPr>
          <a:xfrm>
            <a:off x="1116000" y="2060640"/>
            <a:ext cx="4103640" cy="4492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3"/>
          <a:stretch/>
        </p:blipFill>
        <p:spPr>
          <a:xfrm>
            <a:off x="971640" y="3414600"/>
            <a:ext cx="6121440" cy="4492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4"/>
          <a:stretch/>
        </p:blipFill>
        <p:spPr>
          <a:xfrm>
            <a:off x="826920" y="4767120"/>
            <a:ext cx="61214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657360" y="1390680"/>
            <a:ext cx="7829280" cy="40766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2124000" y="2276640"/>
            <a:ext cx="1295640" cy="4489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6877080" y="2276640"/>
            <a:ext cx="1295280" cy="4489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2700360" y="2924280"/>
            <a:ext cx="129528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6877080" y="2924280"/>
            <a:ext cx="129528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2771640" y="360216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6877080" y="363060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2700360" y="429264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6516720" y="429264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2195640" y="4956120"/>
            <a:ext cx="1584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219240" y="971640"/>
            <a:ext cx="8705520" cy="5379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1258920" y="45226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509760" y="1095480"/>
            <a:ext cx="8123040" cy="46670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900000" y="32130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447840" y="2152800"/>
            <a:ext cx="8248320" cy="25524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826920" y="22050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214200" y="1386000"/>
            <a:ext cx="8713800" cy="40860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50472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图片 1" descr=""/>
          <p:cNvPicPr/>
          <p:nvPr/>
        </p:nvPicPr>
        <p:blipFill>
          <a:blip r:embed="rId1"/>
          <a:stretch/>
        </p:blipFill>
        <p:spPr>
          <a:xfrm>
            <a:off x="533520" y="1766880"/>
            <a:ext cx="8076960" cy="33242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542880" y="204840"/>
            <a:ext cx="8058240" cy="64483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900000" y="2602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971640" y="35146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图片 1" descr=""/>
          <p:cNvPicPr/>
          <p:nvPr/>
        </p:nvPicPr>
        <p:blipFill>
          <a:blip r:embed="rId1"/>
          <a:stretch/>
        </p:blipFill>
        <p:spPr>
          <a:xfrm>
            <a:off x="295200" y="2071800"/>
            <a:ext cx="8553600" cy="27144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50:05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